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8A2E-9590-4F10-8B80-EE2DDE7D7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B50F-4969-44F9-808F-CCAEE105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3C1A5-16CD-447E-BAEC-DE0DF9CA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053DBA-98A4-4EFB-8577-DDD774B24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E1B55-ECB3-4B7E-9DD9-AD1F3EFF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F878BF-8E3A-47DF-BD3E-C22705DD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E11CDD-1A44-4663-B58D-76B6CAD1A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35E15-5B4C-4B8B-859B-4D20D6FC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D910F-34DA-4119-9893-5D1F8B7A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83C73C-C2F3-4CCF-9BB3-CAF3DF558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A7D7CC-4B46-423C-9D33-853E3A3C1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28F22-7106-4601-94FC-F93CC9C3A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4A7-1750-4017-B1FE-5F0039C1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55127-A9A8-4812-A161-67EC833F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B8467-1AD8-4F8A-98FC-0C291FBB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915D4-B94D-4851-AA97-4704B8B3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217C0-823D-40CC-B811-B8A83B6C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8FF7E-207F-4DAA-A44C-8F7F61DD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8A024-DC4D-4436-A2FC-6C63B22D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0E128-B312-4395-98A8-5EAC54AA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9E0D63-82F8-4BC9-8D65-41F7E135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69093-7458-4098-82A5-56DAD03A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84F3F5-8C10-45A7-A3BD-F86FA6472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8503-DA99-400A-80A4-4DD775CA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11643D-5BE4-4138-8566-1E1060DFF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39060-0A24-4F07-9316-ED7F0941F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8C822-6D04-4C44-802A-FEFFDF8CA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7E2EC6-79EE-4F45-B884-FAD7476B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7195E7-9F0C-4416-84F4-E99E54271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591F7-2F63-4FDE-8241-5BACF8AA9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CE0F47-AA41-4CE5-B19A-7D1E70B8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865DA-5519-4D34-AF65-A95B33C1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C587D0-2186-4F52-A5CC-FC3AAA63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C0A8D6-D170-41A8-9630-5AEF822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14FA-A077-4001-9B95-BB8E459B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963A3-CAEF-4CAC-9782-2DFB3F1E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C4129-99F5-4C3C-B2F3-F9E998C63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8AC7A-7439-4B7D-BC2E-2AA19AC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FF215-C179-43CB-B083-D4D7E5646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C5A9E-C377-44E4-A12C-B14F81A0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3B761-9B53-497B-8673-6E61AD8F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F9653-6028-439E-A22D-5149E92E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D35496-0FF4-4154-8B74-3B4477DA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0F5F19-A2E2-4168-93CC-4B7BFBB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6CB722-C428-4F03-B856-6CF6A1130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4203-4195-41A5-B95A-C00F68F1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7A2E7-46B8-42B5-95F3-8CE5DB0C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83D82-632A-422D-9F50-0F9274FA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679AF-4496-4F9D-969A-2F08D5AB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20F0-3249-4280-8182-86954FA3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3E38C-6E97-4D1B-81D9-D23E4E8DC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7E00DE-B0DF-410C-AE99-E0FE941E4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17EAF5-2E5B-46C5-AF1F-5DB9AD9C4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0279E-EF18-4C0A-9BF3-D8E5BFB3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3E0A5E-5615-460C-AAE7-8777CD97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7E8D88-21EF-4F49-8348-93AC2C009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ABC4-F6BC-43E7-BDAD-64747575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163E4-AC89-492F-A5F7-FC36B539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E54346-A7C9-4ACE-B83E-019063EF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260654-EC58-41F8-9377-B8DC55BE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823AF-4AF6-45A5-BC54-580C8BF1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848DC9-F4AC-49F1-B58A-4BC4FE20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610E8-21BD-4D62-88AA-46BA305E3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1A1DA-3E6D-43BB-8F20-B535AB8F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88E23-C68C-4C21-83A4-2F0731E1D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B913D0-3315-4F1E-BE68-AF0CA0EA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F5940-F13E-42EE-9503-BAF364DA5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F135-764E-499B-976A-50B39162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CECA4-D6C8-46C0-BA52-E1BDC7E3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66F8E-3F60-415E-84AD-C9D36796E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922D2F-2B78-4EBA-A823-939169E1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AF680-16A8-4E79-9A89-460505C1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9B614-7808-47BC-90F3-C858E126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6237C5-FF6B-4F23-B474-0421370E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FBC6B6-2790-4064-94AF-5193B739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73081E-AE2D-4DB0-8700-32E18E6F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60E250-86A8-499A-9222-8AE6D289C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FE2D0-93BE-4B61-8B80-80BE8BE03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8147-1829-444A-A6C8-F7DCC261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490EB-1741-4FA2-A68F-2C81D744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10A9D-1830-421B-A36D-EC6AF06D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82FC5-018D-4C15-A238-1B24A36D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CEE990-67A2-4416-B7C6-8639A9F6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9A6127-5FF5-4893-8AB0-9D81256B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DEEF73-2F7C-4445-9FE5-F96A7DA9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82DAD3-AAAD-4B4E-AEE2-3F87087A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399B44-6894-4D94-8681-B017B473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2ED595-0103-4713-A899-55E2CCA4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49816-E713-43CE-80BE-282BB90E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3FF78-9350-4E01-A9B7-7E223C6B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D067F2-4233-489F-AAB6-AFF6BAF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FBEE9-9122-473A-97EA-0FF9C1D16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DD03CD-E381-4105-97BC-3DCAE524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F5AFAB-32E0-433C-9D83-E224C213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2EB7E2-F87A-4719-8E4C-E5C29663A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27FA8-6DD0-419D-92FC-6FEC88B9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A9526-D394-4EEB-875B-949F9875C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EE22CA-EA3B-4A99-8FDD-79739701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79FC17-C463-4DFD-92EB-28144884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B7D9B-E0F1-4825-AD9E-F76BB24B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81387-7D23-443D-8D0E-69E697C5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ED9DEC-C387-4CDB-B833-857A8860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0F83B3-F8C7-4A5A-AD73-8A9777BDB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B857E6-6B6F-458F-972D-F7BE9B585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74DC9-9630-460C-B036-587DDE909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466BF-6E5B-4663-A36A-1662B130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2AC7AE-92F9-40A6-8C17-F2E24E4BC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5D6F70-96D2-4CC8-93CF-409D59F4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D26EF-9967-43D1-8D7A-C3F79171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CADD88-18EE-4DB4-AD67-840C7C86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0B1D0-4FAC-41E6-A104-6F345382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6E82-C380-4E8F-86CC-16F2D9D5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A598-9681-4CC4-A2A4-0B7C1379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5E1BC-EC19-42D4-9297-3E7A6260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85FEE-E0FE-4AD4-833B-833E353D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1C1E0-3C24-4B46-82A0-BC30EBB9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5E2EA3-647C-4D0E-8313-50604612A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C5449A-0814-4893-AD88-CD90775E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A66DF8-EBAA-4535-AE48-D2562A3A5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064A5-DF29-474C-866F-780FDED7C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09A715-FCA7-4FE4-868C-B2FDB5AD0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0D7419-C82C-47AC-B253-84FBFF37F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3621EB-2D13-4349-8CBC-C0D2D1E5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D024-8224-4096-B35F-83081EDA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652CDC-BB40-4130-A59D-6A35A44C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735769-CE27-4E18-A049-582E7D13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C74735-8C58-4673-AFA3-35288BA6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0E5B94-1BFA-4CEF-A4FF-A9D3845F4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E32E50-55D1-4AD1-AC87-E792627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8F6C48-57EA-44FE-A350-1ED921A37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B5FDB6-2BC4-4EE2-86EC-4ECC447E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245DEC-24D0-475F-8EFE-2C809C0A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BDD1B1-F0E4-4AEB-961E-3FDEF700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EB0004-BE2C-4ACF-9EAA-25850668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87CA9-0B60-4C47-99B1-C4A4299D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DE5F06-A784-4598-91D5-E92677AA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E8346E-02C3-4F86-AFFA-58C8055C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1F91698-1E97-4C99-9CD8-CD6AAABA4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D3410-DDA6-41FD-BEB0-5D07F125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8A52B6-4F90-4CB0-BCA2-1819CF9A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910476-715B-4B49-AF7A-AFC1CA18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045BDC-61AD-404B-95C8-9ED770316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AFF7A7-8CBE-47D8-B75A-059C9CD0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FC727-A13A-47EB-8F92-97EA172CF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02BAF-4770-4CAF-9573-3A908376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B23CE-010E-40BB-928A-42BCC215D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243008-2C10-4B90-9FC5-FDB9F9B7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FEFD2F-EA5C-4437-BA44-25A693A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522F4C-2753-4D39-9C2E-E38A319C2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EACC7F-E9EF-4048-9F16-0C0DC5CB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0F9D13-78DE-420A-8E3D-B6504F54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50E003-1AD5-49AD-B2A0-029AC87B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F9EEFB-EC8A-4D15-9A33-48932EE5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D189DE-F852-4627-B5DC-41327A9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04340E-910D-4FA3-B616-1043560D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AB7489-C943-4B25-A33F-217F28FA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303A-B7A4-42A3-A4C6-C1BDFD3F4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EA5EA-6D8E-45AC-9397-786BE307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6A9033-AA49-4698-91FB-1A9AD2C80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E8A4DE-ED8B-4F2D-B2B2-99559845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C9868C-9C97-44C6-A4BB-D5DA6A7E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1DD95B-D628-4123-975F-191C17AC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67137E-3252-426B-86B0-7EB21E29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1354E3-52C5-4859-B6AB-4C82B039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A4D402-9D12-4E67-A0EC-96913EC3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CF1E67-610E-4DE4-BA96-E4A4004AF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A4C49-1634-46CF-AE6A-F66D382A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8DE0A-8796-4837-ACE2-C51F79557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33E415-5CC6-4409-BBFC-E717C259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B2822F-E502-40F3-960C-C780B9820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794252-1528-4105-9765-5409E738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00F63-0C58-40F3-95B1-17E432D0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257BC-E2F5-4EB4-A8D2-F1F12D6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A0CDF-A982-4BEA-B97C-00F40E98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2D1DF-98AC-45F3-8AD6-BF75C77F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F5C6-C01E-4E5E-B62A-B99065454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BF0F-CE8F-47EF-8A76-0AA0F1F3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420C4-9978-4A35-A598-D61FCF81E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08AA6-B365-44F0-9A86-A815466ED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D38AE-3EC7-4DDF-ACF2-3E34CF49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A34B4-9F5D-4959-8DC0-AECBC90F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81BF-595C-418C-BECB-DB3BA06F6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89C6E-BFE9-4849-8F30-7C856F255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498C4-5994-426F-95FF-FCA63E06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CC98D-5CB7-43BA-8AE3-00F0CD72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32CE2-A59E-4556-ADA3-6124E87B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1AE0-D628-403A-A7AC-D9D2E9AC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8EB0F-CC4D-4345-AF52-6F710B18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B2AAB-940A-4DC1-BDB1-878DC587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395E3-C3AB-43A6-8284-90C655830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A065E-EC41-49A1-B29B-62A4D2A6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024F5-D406-4638-A92F-A48EC07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7465E-56FC-4DB9-9A3B-974E4435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4388-DD58-4294-A55E-157A24E1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46FC8-76F4-43E4-997B-17CC9576E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D368D-B51F-40EE-BEFD-F9845F2A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DE23A-C170-45B6-A2CC-0F0624FC4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5993-64BC-4C42-99B3-85FA1C2D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DA425-22EF-49A2-9835-78CFA3F9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EFEC8-0DA0-41BE-8409-BCFEC524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08ACD-7CCC-40CB-B9E5-BD2794ED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5786F-89A1-4A3F-8CD0-C4238CBF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8C81B-5278-4368-BF95-F0D5506F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39471-214C-4DC1-9AA8-3E9B4E8F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46D02-85FD-42A5-BA00-BED4E9E5E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CFE0B-E653-4D2E-B443-948630CC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96B9D-356F-4CCD-9718-9E1EB461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43028-6CEF-4682-93D4-E129D7C5D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0CE3-5590-4231-8D30-25E121E3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658F55-4834-45DC-968E-4B4D8CFED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9D0BA-9A89-493C-AB2E-9D07336C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2B34D-AAD5-42D8-83CE-5BD55250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7552A-CFF5-42E0-88C2-4C408AC2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106B-F3C3-43C3-B21C-DFE4C2385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79F8F-8682-417D-919B-A9EFF9A1C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F90A3-9ADD-48D1-BB1E-E95B5A27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1CAB8-53C7-48F2-B396-908579455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47840-A2A4-4087-BAC3-BC1F678D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6912-BA26-48C6-BAD2-6CD15019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F71A-3F44-4E42-847B-C12CACBD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26D94-4A9A-435F-B9BF-3958222A5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20BCE-ACD3-4873-BBD4-4F03AC4A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2936A-6B2E-46D2-A054-67181CAF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5FB66D-39D5-48AB-9C10-5CF9F59E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271C6-E863-4AD6-878F-FF07061A0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A4625-5DF8-42D3-BC3C-513430BF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774A2-50E6-42C5-AA0D-7C491DD0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3B490-31F9-4C2F-AFA4-43AA354F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92929-20CC-4286-A8CC-2627C9F9B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7A382D-3231-4332-9F98-531C33E0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AE76-4767-4E47-8CEA-C83B1FDB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3C908-6C47-47FE-9318-DAA08EE4A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D20D0-7CDC-4843-9943-DA3BB0D0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ABE37-3FCC-4D2F-AFCC-EEA0461E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871426-FDAD-4488-B901-5BD2AACF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2A474-CFF8-4295-A9F0-1FD19E0B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27EA7-1E0B-499A-9686-8502A672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38B6A2-F103-4A96-8675-60717F504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CF0770-E38C-4768-A94F-063B25A9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00F6C2-787D-459A-AEC6-2FC983FA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CACA4-D9E1-4C14-817C-8043B9F3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D342-6B33-49D7-9A05-3F28F502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E2CA4E-D30D-4F43-B3AE-E8E053AC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CFFBD-2DD1-4B4D-BC8E-2F1E9D69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3CF87-78EF-4E4E-973A-3974E0A8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B4983-98B8-477E-B560-1C1207C4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04E4C-2970-4965-9CD9-054CBA4E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C8021D-BE76-4967-AE0B-18346D5DB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28E10-2AF4-422D-9C53-B11C1FC8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94F4AD-69A1-4C20-8B09-A6BE418E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4A387A-D9E5-4E23-954B-02C2AA61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EB76D-8AA9-42C5-9436-DF289F80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AAAC-EF2A-458D-9314-5E90E7A669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7FAC9-2B73-461A-9AF7-3A335A376E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70E8-70D9-4766-B36D-06FB55C9A3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0078-56BA-4621-9ECF-D3018B9F91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BE7B-AA38-4A03-93E7-6A86890D7B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D492-BC52-4132-B1C3-84906DA983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46E6-A993-4177-96DC-075D0497F7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D60A-8A48-4651-AB48-5FF6F4708D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8FD-6E88-43DB-AA8B-BD11E35C768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B179-BDB7-4B02-93AD-5E9C56B89B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D3EE-3CB7-47E9-B2D5-ABBFF98F5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37391-5832-43C5-A60C-6375BAF2C7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144B-F199-4783-A8A4-4DF09E80C3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32A0-D0CB-429D-86AA-E03349D79F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4BE30-E68E-4B79-861C-F7C985F6A8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814C3-A5B7-4068-89A6-CF60A525FE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1E12-09F1-4810-919A-DB9E30A98D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256EC-27E1-4E66-BF55-EB7D40FD5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E76A-A520-484C-9019-BF650079C5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65BA-FE44-4DC1-B219-75659D983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DEBA-C060-41A0-AC6A-DA925656DC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30E8-62EC-4BB5-AE7D-37A00A8852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0CD9E-EE8B-4678-8BAA-E91EACC13B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49D-9721-4665-B733-615D6C3DD0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8BB2-81A4-4BA5-8B29-87C3547F74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5CC71-4385-4560-97FB-A05E249D79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E905-6752-4E6B-8EE6-93B937F6F7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BB76-1FDC-4B70-B9BB-0FA5D7B645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A88E-DC6A-4161-A5DD-3CFB751684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7ECC-35FF-4C8C-9F99-04C5554DD5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E48A-FAF4-4943-A72D-7759EF2152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92C6-D95B-4D4F-89F4-C2C10B423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8D82-74A4-4264-A806-8D0534FBE5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5EC6-520F-4E2B-BB08-37BBD40F57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35DC4-C07D-423A-BB06-56D6CBA7561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7AF6-51D3-47A1-8DDA-F0F4D2D43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2765-9C40-43EB-B29F-6475E23FD1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AD65-77DE-409B-A9A9-D93EC80112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27C7-95FE-4E4C-BCE5-10AB21CEC9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95D4-3B43-4773-8A6D-F2E38F274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657440" y="2604960"/>
            <a:ext cx="5829120" cy="16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9" name="图片 69633" descr=""/>
          <p:cNvPicPr/>
          <p:nvPr/>
        </p:nvPicPr>
        <p:blipFill>
          <a:blip r:embed="rId1"/>
          <a:stretch/>
        </p:blipFill>
        <p:spPr>
          <a:xfrm>
            <a:off x="366840" y="776160"/>
            <a:ext cx="8410320" cy="530568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2"/>
          <a:stretch/>
        </p:blipFill>
        <p:spPr>
          <a:xfrm>
            <a:off x="5148360" y="3659040"/>
            <a:ext cx="23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3"/>
          <a:stretch/>
        </p:blipFill>
        <p:spPr>
          <a:xfrm>
            <a:off x="5076720" y="4351320"/>
            <a:ext cx="230364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4"/>
          <a:stretch/>
        </p:blipFill>
        <p:spPr>
          <a:xfrm>
            <a:off x="6257880" y="4941720"/>
            <a:ext cx="2016000" cy="4478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5"/>
          <a:stretch/>
        </p:blipFill>
        <p:spPr>
          <a:xfrm>
            <a:off x="6227640" y="5589720"/>
            <a:ext cx="2016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68609" descr=""/>
          <p:cNvPicPr/>
          <p:nvPr/>
        </p:nvPicPr>
        <p:blipFill>
          <a:blip r:embed="rId1"/>
          <a:stretch/>
        </p:blipFill>
        <p:spPr>
          <a:xfrm>
            <a:off x="309600" y="1747800"/>
            <a:ext cx="8524800" cy="33624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77770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7585" descr=""/>
          <p:cNvPicPr/>
          <p:nvPr/>
        </p:nvPicPr>
        <p:blipFill>
          <a:blip r:embed="rId1"/>
          <a:stretch/>
        </p:blipFill>
        <p:spPr>
          <a:xfrm>
            <a:off x="1038240" y="907920"/>
            <a:ext cx="7067520" cy="223848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7586" descr=""/>
          <p:cNvPicPr/>
          <p:nvPr/>
        </p:nvPicPr>
        <p:blipFill>
          <a:blip r:embed="rId2"/>
          <a:stretch/>
        </p:blipFill>
        <p:spPr>
          <a:xfrm>
            <a:off x="557280" y="3287880"/>
            <a:ext cx="8029440" cy="22287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284720" y="148428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4211640" y="20750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7020000" y="155736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005600" y="2060640"/>
            <a:ext cx="102240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036880" y="3933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2195640" y="450864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5003640" y="3860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5003640" y="446580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7812000" y="3889440"/>
            <a:ext cx="79236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97960" y="4479840"/>
            <a:ext cx="792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04920" y="876240"/>
            <a:ext cx="8534160" cy="5105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608472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419640" y="3616200"/>
            <a:ext cx="1223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451640" y="3645000"/>
            <a:ext cx="151308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1476360" y="4278240"/>
            <a:ext cx="3311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3995640" y="4869000"/>
            <a:ext cx="208908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4500720" y="5516640"/>
            <a:ext cx="1512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604800" y="809640"/>
            <a:ext cx="7934400" cy="5238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995640" y="2089080"/>
            <a:ext cx="273708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5651640" y="2766960"/>
            <a:ext cx="230508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4788000" y="3371760"/>
            <a:ext cx="1296720" cy="447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6877080" y="4076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6012000" y="48690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8373" descr=""/>
          <p:cNvPicPr/>
          <p:nvPr/>
        </p:nvPicPr>
        <p:blipFill>
          <a:blip r:embed="rId1"/>
          <a:stretch/>
        </p:blipFill>
        <p:spPr>
          <a:xfrm>
            <a:off x="604800" y="2224080"/>
            <a:ext cx="7934400" cy="2409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835280" y="285264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003640" y="2909880"/>
            <a:ext cx="194472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494320" y="35146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299880" y="1185840"/>
            <a:ext cx="8544240" cy="44863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7740720" y="2637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7667640" y="3860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4"/>
          <a:stretch/>
        </p:blipFill>
        <p:spPr>
          <a:xfrm>
            <a:off x="7667640" y="5157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图片 56324" descr=""/>
          <p:cNvPicPr/>
          <p:nvPr/>
        </p:nvPicPr>
        <p:blipFill>
          <a:blip r:embed="rId1"/>
          <a:stretch/>
        </p:blipFill>
        <p:spPr>
          <a:xfrm>
            <a:off x="638280" y="1733400"/>
            <a:ext cx="7867440" cy="33912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"/>
          <a:stretch/>
        </p:blipFill>
        <p:spPr>
          <a:xfrm>
            <a:off x="7380360" y="306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3"/>
          <a:stretch/>
        </p:blipFill>
        <p:spPr>
          <a:xfrm>
            <a:off x="7408800" y="429264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85840" y="1504800"/>
            <a:ext cx="8572320" cy="384840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4356000" y="3197160"/>
            <a:ext cx="3456000" cy="44784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4356000" y="4781520"/>
            <a:ext cx="3456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4276" descr=""/>
          <p:cNvPicPr/>
          <p:nvPr/>
        </p:nvPicPr>
        <p:blipFill>
          <a:blip r:embed="rId1"/>
          <a:stretch/>
        </p:blipFill>
        <p:spPr>
          <a:xfrm>
            <a:off x="576360" y="1833480"/>
            <a:ext cx="7991280" cy="319104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3995640" y="2781360"/>
            <a:ext cx="388944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3995640" y="4422600"/>
            <a:ext cx="38894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2231" descr=""/>
          <p:cNvPicPr/>
          <p:nvPr/>
        </p:nvPicPr>
        <p:blipFill>
          <a:blip r:embed="rId1"/>
          <a:stretch/>
        </p:blipFill>
        <p:spPr>
          <a:xfrm>
            <a:off x="633240" y="1224000"/>
            <a:ext cx="7877520" cy="441000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2771640" y="263700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5148360" y="2708280"/>
            <a:ext cx="71892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2843280" y="3343320"/>
            <a:ext cx="1152360" cy="447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2843280" y="4510080"/>
            <a:ext cx="1152360" cy="4478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6"/>
          <a:stretch/>
        </p:blipFill>
        <p:spPr>
          <a:xfrm>
            <a:off x="5219640" y="458136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7"/>
          <a:stretch/>
        </p:blipFill>
        <p:spPr>
          <a:xfrm>
            <a:off x="2914560" y="5216400"/>
            <a:ext cx="1152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4:54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